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9583-F731-493A-B4DC-298111DCC7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B8CF-FD6E-4ECF-9FF9-EFDD80C67E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2470-F88D-4E04-A399-B0BA2D61A6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A491-0F9E-4D7F-9D28-2CBD34B7EC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CBB0-08B6-4599-BD9E-0258528124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5EB0-842A-49ED-9299-3B4BDFB073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4B5F-EF73-4D5F-8AB9-F44C0AECD1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3763-5DC5-4142-B44D-DD0C55CD80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9148-1278-4065-9815-4BE3267F71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E4AD-977E-4BB9-8DEE-ECD0DC9782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03D0-D9C4-4058-B30E-60EEC34661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9006-5913-444F-BB01-4007146D70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54C8-0928-4CC4-B0A4-599C7D34C1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3079-9FA9-4CC8-B827-E8992F30C8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E659-2393-4A6C-B6CD-1422550EC2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546C-F929-44F5-994F-24AE9025274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6889-3089-4FD3-8D10-982A5BDE42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3BE7-F905-4703-A899-A5729A4C96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7498-BCE2-4C99-A02E-70FF7D54CC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B4F7-E3B8-4978-BDB1-3CF9EDF5C4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5842-BC1B-4480-9940-8F201401DA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66F2-2947-4120-9EAC-14B75E81F9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C404-97AD-4BD3-9BC1-668C4F7A4D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5DF-7BB3-4FB6-9A9D-488C69CE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317-E8ED-41C1-8BCA-7AB52A81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829-0DFA-4758-8A86-D7E16411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3F3-B86E-42A9-B7A8-D1A667DD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6D5-9782-4AE0-A2A9-B6B0170E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6D60-CCA5-4C0B-92DB-62E16C35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512-A619-41D8-A954-7DB02E9A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A0A5-D624-45F6-A2FB-5ABEAA0B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A4B2-9EE9-4C8D-8B30-89CE87F3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238E-D9DF-4C98-A74F-E8AB205D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6B52-B396-4A45-9197-22D16C81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D87-509A-406A-830A-3C0C5C72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F4FA-0F62-433B-8186-8471C9F05EA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alibri"/>
              </a:rPr>
              <a:t>Lipids Metabolis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28480" y="47592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Calibri"/>
              </a:rPr>
              <a:t>CPT-I deficienc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-</a:t>
            </a:r>
            <a:r>
              <a:rPr b="0" lang="en-GB" sz="2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Affects the </a:t>
            </a:r>
            <a:r>
              <a:rPr b="1" lang="en-GB" sz="2200" spc="-1" strike="noStrike" u="sng">
                <a:solidFill>
                  <a:srgbClr val="000099"/>
                </a:solidFill>
                <a:uFillTx/>
                <a:latin typeface="Calibri"/>
              </a:rPr>
              <a:t>li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     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-  liver is unable to utilize long-chain fatty acids as a fu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     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-  So, liver 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cannot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 perform gluconeogenesis (synthesis of glucose during fasting)  </a:t>
            </a:r>
            <a:r>
              <a:rPr b="1" lang="en-GB" sz="2200" spc="-1" strike="noStrike" u="sng">
                <a:solidFill>
                  <a:srgbClr val="000099"/>
                </a:solidFill>
                <a:uFillTx/>
                <a:latin typeface="Calibri"/>
              </a:rPr>
              <a:t>Hypoglycemia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 occurs , might lead to 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co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Calibri"/>
              </a:rPr>
              <a:t>CPT-II deficienc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0" lang="en-GB" sz="1700" spc="-1" strike="noStrike">
                <a:solidFill>
                  <a:srgbClr val="0070c0"/>
                </a:solidFill>
                <a:latin typeface="Calibri"/>
              </a:rPr>
              <a:t>-  </a:t>
            </a:r>
            <a:r>
              <a:rPr b="0" lang="en-GB" sz="1900" spc="-1" strike="noStrike">
                <a:solidFill>
                  <a:srgbClr val="000099"/>
                </a:solidFill>
                <a:latin typeface="Calibri"/>
              </a:rPr>
              <a:t>Affects primarily the </a:t>
            </a:r>
            <a:r>
              <a:rPr b="1" lang="en-GB" sz="1900" spc="-1" strike="noStrike" u="sng">
                <a:solidFill>
                  <a:srgbClr val="000099"/>
                </a:solidFill>
                <a:uFillTx/>
                <a:latin typeface="Calibri"/>
              </a:rPr>
              <a:t>skeletal</a:t>
            </a:r>
            <a:r>
              <a:rPr b="0" lang="en-GB" sz="1900" spc="-1" strike="noStrike">
                <a:solidFill>
                  <a:srgbClr val="000099"/>
                </a:solidFill>
                <a:latin typeface="Calibri"/>
              </a:rPr>
              <a:t> &amp; </a:t>
            </a:r>
            <a:r>
              <a:rPr b="1" lang="en-GB" sz="1900" spc="-1" strike="noStrike" u="sng">
                <a:solidFill>
                  <a:srgbClr val="000099"/>
                </a:solidFill>
                <a:uFillTx/>
                <a:latin typeface="Calibri"/>
              </a:rPr>
              <a:t>cardiac muscl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0" lang="en-GB" sz="1900" spc="-1" strike="noStrike">
                <a:solidFill>
                  <a:srgbClr val="000099"/>
                </a:solidFill>
                <a:latin typeface="Calibri"/>
              </a:rPr>
              <a:t>- Symptoms :  Cardiomyopath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99"/>
                </a:solidFill>
                <a:latin typeface="Calibri"/>
              </a:rPr>
              <a:t>                                </a:t>
            </a:r>
            <a:r>
              <a:rPr b="0" lang="en-GB" sz="1900" spc="-1" strike="noStrike">
                <a:solidFill>
                  <a:srgbClr val="000099"/>
                </a:solidFill>
                <a:latin typeface="Calibri"/>
              </a:rPr>
              <a:t>Muscle  weaknes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Treatment  of carinitine defici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- 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Avoiding prolonged fas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-  </a:t>
            </a:r>
            <a:r>
              <a:rPr b="1" lang="en-GB" sz="2000" spc="-1" strike="noStrike">
                <a:solidFill>
                  <a:srgbClr val="000099"/>
                </a:solidFill>
                <a:latin typeface="Calibri"/>
              </a:rPr>
              <a:t>Diet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 should be rich in carbohydrates , low in long-chain fatty acids &amp; supplemented with medium chain fatty ac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70c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058160" cy="718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Calibri"/>
              </a:rPr>
              <a:t>Reactions of </a:t>
            </a:r>
            <a:r>
              <a:rPr b="1" lang="en-GB" sz="4000" spc="-1" strike="noStrike">
                <a:solidFill>
                  <a:srgbClr val="00b050"/>
                </a:solidFill>
                <a:latin typeface="Symbol"/>
                <a:ea typeface="Symbol"/>
              </a:rPr>
              <a:t></a:t>
            </a:r>
            <a:r>
              <a:rPr b="1" lang="en-GB" sz="4000" spc="-1" strike="noStrike">
                <a:solidFill>
                  <a:srgbClr val="00b050"/>
                </a:solidFill>
                <a:latin typeface="Calibri"/>
              </a:rPr>
              <a:t>-oxi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rcRect l="56990" t="0" r="0" b="0"/>
          <a:stretch/>
        </p:blipFill>
        <p:spPr>
          <a:xfrm>
            <a:off x="611280" y="1052640"/>
            <a:ext cx="3816360" cy="540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3744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Medium Chain Fatty acyl CoA Dehydrogenase Deficiency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(MC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1628280"/>
            <a:ext cx="84960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Autosomal recessive dis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One of the most common inborn errors of metabol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The most common inborn error of fatty acid oxidation (1:40000 worldwide birth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Medium chain acyl coA dehydrogenase deficiency Causes decrease of fatty acid oxid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Severe hypoglycemia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occurs (as tissues do not get use fatty acids as a source of energy &amp; must rely on gluco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Infants are particularly affected by MCAD deficiency as they rely on milk which contains primarily MC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Treatment: 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carbohydrate rich di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7779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Energy Yield from Fatty Acid Oxid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197000"/>
            <a:ext cx="8329680" cy="52322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GB" sz="2200" spc="-1" strike="noStrike" u="sng">
                <a:solidFill>
                  <a:srgbClr val="000099"/>
                </a:solidFill>
                <a:uFillTx/>
                <a:latin typeface="Calibri"/>
              </a:rPr>
              <a:t>Palmitatic acid as an example: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Complete </a:t>
            </a:r>
            <a:r>
              <a:rPr b="0" lang="en-GB" sz="2200" spc="-1" strike="noStrike">
                <a:solidFill>
                  <a:srgbClr val="0070c0"/>
                </a:solidFill>
                <a:latin typeface="Symbol"/>
                <a:ea typeface="Symbol"/>
              </a:rPr>
              <a:t>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-oxidation of </a:t>
            </a:r>
            <a:r>
              <a:rPr b="1" lang="en-GB" sz="2200" spc="-1" strike="noStrike">
                <a:solidFill>
                  <a:srgbClr val="0070c0"/>
                </a:solidFill>
                <a:latin typeface="Calibri"/>
              </a:rPr>
              <a:t>palmotyl CoA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lang="en-GB" sz="2200" spc="-1" strike="noStrike" u="sng">
                <a:solidFill>
                  <a:srgbClr val="0070c0"/>
                </a:solidFill>
                <a:uFillTx/>
                <a:latin typeface="Calibri"/>
              </a:rPr>
              <a:t>16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 carbons)  produces 8 acetyl coA in 7 cycles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-  </a:t>
            </a:r>
            <a:r>
              <a:rPr b="1" lang="en-GB" sz="2200" spc="-1" strike="noStrike">
                <a:solidFill>
                  <a:srgbClr val="002060"/>
                </a:solidFill>
                <a:latin typeface="Calibri"/>
              </a:rPr>
              <a:t>8</a:t>
            </a:r>
            <a:r>
              <a:rPr b="0" lang="en-GB" sz="2200" spc="-1" strike="noStrike">
                <a:solidFill>
                  <a:srgbClr val="002060"/>
                </a:solidFill>
                <a:latin typeface="Calibri"/>
              </a:rPr>
              <a:t> acetyl CoA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----- Kreb Cycle TCA cycle  ------ 8 X 12 =   </a:t>
            </a:r>
            <a:r>
              <a:rPr b="1" lang="en-GB" sz="2200" spc="-1" strike="noStrike">
                <a:solidFill>
                  <a:srgbClr val="0070c0"/>
                </a:solidFill>
                <a:latin typeface="Calibri"/>
              </a:rPr>
              <a:t>96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AT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-  </a:t>
            </a:r>
            <a:r>
              <a:rPr b="1" lang="en-GB" sz="2200" spc="-1" strike="noStrike">
                <a:solidFill>
                  <a:srgbClr val="002060"/>
                </a:solidFill>
                <a:latin typeface="Calibri"/>
              </a:rPr>
              <a:t>7</a:t>
            </a:r>
            <a:r>
              <a:rPr b="0" lang="en-GB" sz="2200" spc="-1" strike="noStrike">
                <a:solidFill>
                  <a:srgbClr val="002060"/>
                </a:solidFill>
                <a:latin typeface="Calibri"/>
              </a:rPr>
              <a:t> NADH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----------- ETC ----------------------------- 7  X  3 =   </a:t>
            </a:r>
            <a:r>
              <a:rPr b="1" lang="en-GB" sz="2200" spc="-1" strike="noStrike">
                <a:solidFill>
                  <a:srgbClr val="0070c0"/>
                </a:solidFill>
                <a:latin typeface="Calibri"/>
              </a:rPr>
              <a:t>21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AT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-  </a:t>
            </a:r>
            <a:r>
              <a:rPr b="1" lang="en-GB" sz="2200" spc="-1" strike="noStrike">
                <a:solidFill>
                  <a:srgbClr val="002060"/>
                </a:solidFill>
                <a:latin typeface="Calibri"/>
              </a:rPr>
              <a:t>7</a:t>
            </a:r>
            <a:r>
              <a:rPr b="0" lang="en-GB" sz="2200" spc="-1" strike="noStrike">
                <a:solidFill>
                  <a:srgbClr val="002060"/>
                </a:solidFill>
                <a:latin typeface="Calibri"/>
              </a:rPr>
              <a:t> FADH2-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---------  ETC ----------------------------- 7  X 2  =   </a:t>
            </a:r>
            <a:r>
              <a:rPr b="1" lang="en-GB" sz="2200" spc="-1" strike="noStrike">
                <a:solidFill>
                  <a:srgbClr val="0070c0"/>
                </a:solidFill>
                <a:latin typeface="Calibri"/>
              </a:rPr>
              <a:t>14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AT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                                                                                             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------------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All yield ---------------------------------------------------------</a:t>
            </a:r>
            <a:r>
              <a:rPr b="1" lang="en-GB" sz="2200" spc="-1" strike="noStrike" u="sng">
                <a:solidFill>
                  <a:srgbClr val="002060"/>
                </a:solidFill>
                <a:uFillTx/>
                <a:latin typeface="Calibri"/>
              </a:rPr>
              <a:t>131 AT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Activation of fatty acid requires </a:t>
            </a:r>
            <a:r>
              <a:rPr b="1" lang="en-GB" sz="2200" spc="-1" strike="noStrike" u="sng">
                <a:solidFill>
                  <a:srgbClr val="002060"/>
                </a:solidFill>
                <a:uFillTx/>
                <a:latin typeface="Calibri"/>
              </a:rPr>
              <a:t>2 AT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en-GB" sz="2200" spc="-1" strike="noStrike" u="sng">
                <a:solidFill>
                  <a:srgbClr val="0070c0"/>
                </a:solidFill>
                <a:uFillTx/>
                <a:latin typeface="Calibri"/>
              </a:rPr>
              <a:t>Net energy gained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: </a:t>
            </a:r>
            <a:r>
              <a:rPr b="1" lang="en-GB" sz="2200" spc="-1" strike="noStrike" u="sng">
                <a:solidFill>
                  <a:srgbClr val="002060"/>
                </a:solidFill>
                <a:uFillTx/>
                <a:latin typeface="Calibri"/>
              </a:rPr>
              <a:t>129 ATPs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from </a:t>
            </a:r>
            <a:r>
              <a:rPr b="1" lang="en-GB" sz="2200" spc="-1" strike="noStrike">
                <a:solidFill>
                  <a:srgbClr val="0070c0"/>
                </a:solidFill>
                <a:latin typeface="Calibri"/>
              </a:rPr>
              <a:t>one molecule of </a:t>
            </a:r>
            <a:r>
              <a:rPr b="1" lang="en-GB" sz="2200" spc="-1" strike="noStrike" u="sng">
                <a:solidFill>
                  <a:srgbClr val="002060"/>
                </a:solidFill>
                <a:uFillTx/>
                <a:latin typeface="Calibri"/>
              </a:rPr>
              <a:t>palmit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Oxidation of Branched-Chain Fatty Acid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3640" y="1052640"/>
            <a:ext cx="84452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Calibri"/>
              </a:rPr>
              <a:t>Branched-chain fatty acids  as phytanic acid is catabolised by  </a:t>
            </a:r>
            <a:r>
              <a:rPr b="1" lang="en-GB" sz="2100" spc="-1" strike="noStrike">
                <a:solidFill>
                  <a:srgbClr val="00b050"/>
                </a:solidFill>
                <a:latin typeface="Symbol"/>
                <a:ea typeface="Symbol"/>
              </a:rPr>
              <a:t></a:t>
            </a:r>
            <a:r>
              <a:rPr b="1" lang="en-GB" sz="2100" spc="-1" strike="noStrike">
                <a:solidFill>
                  <a:srgbClr val="00b050"/>
                </a:solidFill>
                <a:latin typeface="Calibri"/>
              </a:rPr>
              <a:t>-oxidation</a:t>
            </a:r>
            <a:r>
              <a:rPr b="0" lang="en-GB" sz="2100" spc="-1" strike="noStrike">
                <a:solidFill>
                  <a:srgbClr val="000099"/>
                </a:solidFill>
                <a:latin typeface="Calibri"/>
              </a:rPr>
              <a:t> by </a:t>
            </a:r>
            <a:r>
              <a:rPr b="0" lang="en-GB" sz="21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GB" sz="2100" spc="-1" strike="noStrike">
                <a:solidFill>
                  <a:srgbClr val="000099"/>
                </a:solidFill>
                <a:latin typeface="Calibri"/>
              </a:rPr>
              <a:t>-hydroxylase (the first carbon is removed as CO2 to enter in beta oxidation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Calibri"/>
              </a:rPr>
              <a:t>Deficiency of a-hydroxylase deficiency results in accumulation of phytanic acid in blood &amp; tissues with mainly neurologic symptoms (</a:t>
            </a:r>
            <a:r>
              <a:rPr b="1" lang="en-GB" sz="2100" spc="-1" strike="noStrike" u="sng">
                <a:solidFill>
                  <a:srgbClr val="000099"/>
                </a:solidFill>
                <a:uFillTx/>
                <a:latin typeface="Calibri"/>
              </a:rPr>
              <a:t>Refsum disease</a:t>
            </a:r>
            <a:r>
              <a:rPr b="0" lang="en-GB" sz="21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0" lang="en-GB" sz="2100" spc="-1" strike="noStrike">
                <a:solidFill>
                  <a:srgbClr val="000099"/>
                </a:solidFill>
                <a:latin typeface="Calibri"/>
              </a:rPr>
              <a:t>It is treated by diet restriction to reduce disease progress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rcRect l="5379" t="17130" r="3365" b="14912"/>
          <a:stretch/>
        </p:blipFill>
        <p:spPr>
          <a:xfrm>
            <a:off x="1547640" y="3971880"/>
            <a:ext cx="59040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09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76092"/>
                </a:solidFill>
                <a:latin typeface="Calibri"/>
              </a:rPr>
              <a:t>Ketone Bodies Metabolis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Ketone Bod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8392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alibri"/>
              </a:rPr>
              <a:t>Liver mitochondria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can convert acetyl CoA derived from the oxidation of fatty acids to </a:t>
            </a:r>
            <a:r>
              <a:rPr b="1" lang="en-GB" sz="2000" spc="-1" strike="noStrike">
                <a:solidFill>
                  <a:srgbClr val="000099"/>
                </a:solidFill>
                <a:latin typeface="Calibri"/>
              </a:rPr>
              <a:t>ketone bodies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which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                    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1- Acetoace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                    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2- 3-hydroxybutyrate (or </a:t>
            </a:r>
            <a:r>
              <a:rPr b="0" lang="en-GB" sz="20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-hydroxybutyr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                    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3- Acetone (nonmetabolized side produc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Acetoacetate &amp; 3-hydroxybutyrate  synthesized in the liver are transported </a:t>
            </a:r>
            <a:r>
              <a:rPr b="1" lang="en-GB" sz="2000" spc="-1" strike="noStrike">
                <a:solidFill>
                  <a:srgbClr val="000099"/>
                </a:solidFill>
                <a:latin typeface="Calibri"/>
              </a:rPr>
              <a:t>via blood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to peripheral t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In </a:t>
            </a:r>
            <a:r>
              <a:rPr b="1" lang="en-GB" sz="2000" spc="-1" strike="noStrike">
                <a:solidFill>
                  <a:srgbClr val="000099"/>
                </a:solidFill>
                <a:latin typeface="Calibri"/>
              </a:rPr>
              <a:t>peripheral tissues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, they can be converted to acetyl Co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alibri"/>
              </a:rPr>
              <a:t>Acetyl CoA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is oxidized by citric acid cycle to yield energy (AT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24000" y="691920"/>
            <a:ext cx="864072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Ketone bodies are important sources of energy for peripheral  tiss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1- They are soluble in aqueous solution, so do not need to be incorporated into  lipoproteins or carried by albumin as do other lip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2- They are synthesized in the liver when amount of acetyl CoA  exceeds oxidative capacity of liver (kerb's cyc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3- They are important sources of energy during prolonged periods of fasting especially for the brain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        </a:t>
            </a: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- Can pass BBB (while FAs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Calibri"/>
              </a:rPr>
              <a:t>cannot</a:t>
            </a: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        </a:t>
            </a: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- Glucose in blood available in fasting is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Calibri"/>
              </a:rPr>
              <a:t>not</a:t>
            </a: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 sufficient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Synthesis of ketone bodies in the liver</a:t>
            </a:r>
            <a:br>
              <a:rPr sz="3200"/>
            </a:b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(Ketogene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3640" y="1484280"/>
            <a:ext cx="856908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During a fast, liver is flooded by 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Calibri"/>
              </a:rPr>
              <a:t>fatty acids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mobilized from adipose tiss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FAs are oxidised to 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Calibri"/>
              </a:rPr>
              <a:t>acetyl CoA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in large amou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Acetyl CoA does not find enough oxalacetate to be incorporated in TCA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So, excess acetyl CoA is shifted to 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Calibri"/>
              </a:rPr>
              <a:t>ketone bodies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69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1341360"/>
            <a:ext cx="8569080" cy="41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Fatty acids</a:t>
            </a: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:  </a:t>
            </a: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are stored in adipose tissue, in the form of  </a:t>
            </a:r>
            <a:br>
              <a:rPr sz="2800"/>
            </a:b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Triacylglycerol (TAG) </a:t>
            </a: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=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lipogenesis</a:t>
            </a:r>
            <a:br>
              <a:rPr sz="2800"/>
            </a:b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                       = Glycerol + 3 Fatty Acids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TAG</a:t>
            </a: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: provide concentrated storage of metabolic energy because they are highly reduced and largely anhydrous.</a:t>
            </a:r>
            <a:br>
              <a:rPr sz="2800"/>
            </a:br>
            <a:br>
              <a:rPr sz="2800"/>
            </a:b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Complete oxidation of fatty acids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o CO2 &amp; H2O:  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9 Kcal/gram of fat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500040" y="333360"/>
            <a:ext cx="8215200" cy="8251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alibri"/>
                <a:ea typeface="Arial"/>
              </a:rPr>
              <a:t>Stored Fa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476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Reactions of ketone bodies 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826920" y="1147680"/>
            <a:ext cx="77774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0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Use of Ketone bodies by peripheral tissues</a:t>
            </a:r>
            <a:br>
              <a:rPr sz="3200"/>
            </a:b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(Ketolysis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41000"/>
            <a:ext cx="82296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Liver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Calibri"/>
              </a:rPr>
              <a:t>cannot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use ketone bodies as a fu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Use of ketone bodies occurs in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Calibri"/>
              </a:rPr>
              <a:t>peripheral t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971640" y="2781360"/>
            <a:ext cx="727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Ketogenesis &amp; Keto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sherif\Desktop\sherif.folder\Lippincot JPG pictures\c16\16_023.jpg"/>
          <p:cNvPicPr/>
          <p:nvPr/>
        </p:nvPicPr>
        <p:blipFill>
          <a:blip r:embed="rId1"/>
          <a:srcRect l="0" t="18014" r="0" b="11925"/>
          <a:stretch/>
        </p:blipFill>
        <p:spPr>
          <a:xfrm>
            <a:off x="468360" y="1413000"/>
            <a:ext cx="8280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Excessive Production of Ketone Bodies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in Diabetes Melli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sherif\Desktop\sherif.folder\Lippincot JPG pictures\c16\16_024.jpg"/>
          <p:cNvPicPr/>
          <p:nvPr/>
        </p:nvPicPr>
        <p:blipFill>
          <a:blip r:embed="rId1"/>
          <a:srcRect l="11986" t="0" r="9218" b="11835"/>
          <a:stretch/>
        </p:blipFill>
        <p:spPr>
          <a:xfrm>
            <a:off x="4500720" y="1484280"/>
            <a:ext cx="4211640" cy="4824360"/>
          </a:xfrm>
          <a:prstGeom prst="rect">
            <a:avLst/>
          </a:prstGeom>
          <a:ln w="0">
            <a:noFill/>
          </a:ln>
        </p:spPr>
      </p:pic>
      <p:sp>
        <p:nvSpPr>
          <p:cNvPr id="107" name="Content Placeholder 2"/>
          <p:cNvSpPr/>
          <p:nvPr/>
        </p:nvSpPr>
        <p:spPr>
          <a:xfrm>
            <a:off x="324000" y="2421000"/>
            <a:ext cx="3887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  <a:ea typeface="Arial"/>
              </a:rPr>
              <a:t>Ketonemia (increased KB in bl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alibri"/>
                <a:ea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  <a:ea typeface="Arial"/>
              </a:rPr>
              <a:t>occurs when rate of production of ketone bodies (KETOGENESIS) is greater than rate of their use (KETOLY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404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in uncontrolled type 1 DM (Insulin-dependent D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alibri"/>
              </a:rPr>
              <a:t>Increased lipolysis in adipose tissues with increased FFAs in blood ----- High oxidation of fatty acids in liver------ Excessive amounts of  acetyl CoA 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alibri"/>
              </a:rPr>
              <a:t>Depletion of NAD+ pool (required by citric acid cycle)-------- Acetyl CoA is shifted to ketone bodies synthesis in liver 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DIABETIC KETOACIDOSIS, (DKA) (with Ketonemia &amp; ketonur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55600" y="3341520"/>
            <a:ext cx="86328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alibri"/>
              </a:rPr>
              <a:t>Fatty Acids Oxida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480" y="115920"/>
            <a:ext cx="8443800" cy="9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76092"/>
                </a:solidFill>
                <a:latin typeface="Calibri"/>
              </a:rPr>
              <a:t>Release of fatty acids from TAG</a:t>
            </a:r>
            <a:br>
              <a:rPr sz="2800"/>
            </a:br>
            <a:r>
              <a:rPr b="1" lang="en-GB" sz="2800" spc="-1" strike="noStrike">
                <a:solidFill>
                  <a:srgbClr val="376092"/>
                </a:solidFill>
                <a:latin typeface="Calibri"/>
              </a:rPr>
              <a:t>in adipose tissue by lipo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6760" y="1052640"/>
            <a:ext cx="83581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By </a:t>
            </a: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hormone-sensitive lipase (HSL) 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---- yields</a:t>
            </a:r>
            <a:r>
              <a:rPr b="0" lang="en-GB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free fatty ac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Glucagon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&amp;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Epinephrine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phosph. HSL           </a:t>
            </a: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(in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fasting state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, 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no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 glucose)             cA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Insulin                         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dephosph. HSL                                </a:t>
            </a: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INA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fed stat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glucose is available</a:t>
            </a:r>
            <a:r>
              <a:rPr b="0" lang="en-GB" sz="24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4"/>
          <p:cNvCxnSpPr/>
          <p:nvPr/>
        </p:nvCxnSpPr>
        <p:spPr>
          <a:xfrm flipV="1">
            <a:off x="4928040" y="1988280"/>
            <a:ext cx="2520" cy="3596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12"/>
          <p:cNvCxnSpPr/>
          <p:nvPr/>
        </p:nvCxnSpPr>
        <p:spPr>
          <a:xfrm>
            <a:off x="2050560" y="2637000"/>
            <a:ext cx="87876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6" name="Straight Arrow Connector 14"/>
          <p:cNvCxnSpPr/>
          <p:nvPr/>
        </p:nvCxnSpPr>
        <p:spPr>
          <a:xfrm>
            <a:off x="5357880" y="2637000"/>
            <a:ext cx="164376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7" name="Straight Arrow Connector 10"/>
          <p:cNvCxnSpPr/>
          <p:nvPr/>
        </p:nvCxnSpPr>
        <p:spPr>
          <a:xfrm>
            <a:off x="4000680" y="1773360"/>
            <a:ext cx="4291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8" name="Straight Arrow Connector 11"/>
          <p:cNvCxnSpPr/>
          <p:nvPr/>
        </p:nvCxnSpPr>
        <p:spPr>
          <a:xfrm>
            <a:off x="6179760" y="1773360"/>
            <a:ext cx="4993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1042920" y="3500280"/>
            <a:ext cx="756144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Fate of free fatty acids </a:t>
            </a:r>
            <a:br>
              <a:rPr sz="3200"/>
            </a:b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(released from TAG in adipose tissu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52400"/>
            <a:ext cx="8229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 Fatty aci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(from adipose tissue TA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Bloo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(bound with albumi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                             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Cells  of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FA Oxidation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in mitochondri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              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Ketone Bodies                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Acetyl CoA             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Citric Acid Cycle for AT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(in liv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b0f0"/>
                </a:solidFill>
                <a:uFillTx/>
                <a:latin typeface="Calibri"/>
              </a:rPr>
              <a:t>FFAs are oxidized in all tissues of the body  EXCEP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RBCs</a:t>
            </a: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(no mitochondria)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brain</a:t>
            </a: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(BBB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4"/>
          <p:cNvCxnSpPr/>
          <p:nvPr/>
        </p:nvCxnSpPr>
        <p:spPr>
          <a:xfrm flipH="1">
            <a:off x="4571640" y="3000240"/>
            <a:ext cx="21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6"/>
          <p:cNvCxnSpPr/>
          <p:nvPr/>
        </p:nvCxnSpPr>
        <p:spPr>
          <a:xfrm flipH="1">
            <a:off x="4571640" y="3642840"/>
            <a:ext cx="2160" cy="358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Straight Arrow Connector 10"/>
          <p:cNvCxnSpPr/>
          <p:nvPr/>
        </p:nvCxnSpPr>
        <p:spPr>
          <a:xfrm flipH="1">
            <a:off x="4570200" y="2143080"/>
            <a:ext cx="360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Straight Arrow Connector 13"/>
          <p:cNvCxnSpPr/>
          <p:nvPr/>
        </p:nvCxnSpPr>
        <p:spPr>
          <a:xfrm flipH="1">
            <a:off x="4570200" y="4358880"/>
            <a:ext cx="360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Straight Arrow Connector 15"/>
          <p:cNvCxnSpPr/>
          <p:nvPr/>
        </p:nvCxnSpPr>
        <p:spPr>
          <a:xfrm>
            <a:off x="5286240" y="4785840"/>
            <a:ext cx="286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Straight Arrow Connector 22"/>
          <p:cNvCxnSpPr/>
          <p:nvPr/>
        </p:nvCxnSpPr>
        <p:spPr>
          <a:xfrm flipH="1" flipV="1">
            <a:off x="3571560" y="478548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93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76092"/>
                </a:solidFill>
                <a:latin typeface="Symbol"/>
                <a:ea typeface="Symbol"/>
              </a:rPr>
              <a:t></a:t>
            </a:r>
            <a:r>
              <a:rPr b="1" lang="en-GB" sz="3600" spc="-1" strike="noStrike">
                <a:solidFill>
                  <a:srgbClr val="376092"/>
                </a:solidFill>
                <a:latin typeface="Calibri"/>
              </a:rPr>
              <a:t>-oxidation of fatty ac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4100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Fatty acids in cytosol  are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transported</a:t>
            </a:r>
            <a:r>
              <a:rPr b="0" lang="en-GB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to mitochond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-oxidation of fatty acids occurs In the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mitochond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Two carbon fragments are successively removed from carboxyl end of the fatty acid producing  </a:t>
            </a: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acetyl CoA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, NADH &amp; FADH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                     </a:t>
            </a:r>
            <a:r>
              <a:rPr b="1" lang="en-GB" sz="3200" spc="-1" strike="noStrike">
                <a:solidFill>
                  <a:srgbClr val="000099"/>
                </a:solidFill>
                <a:latin typeface="Calibri"/>
              </a:rPr>
              <a:t>Fatty Acid </a:t>
            </a: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(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 carb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atty acid </a:t>
            </a: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(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n -2</a:t>
            </a: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 carbons) + </a:t>
            </a: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Acetyl CoA </a:t>
            </a: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+ NADH + FADH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own Arrow 3"/>
          <p:cNvSpPr/>
          <p:nvPr/>
        </p:nvSpPr>
        <p:spPr>
          <a:xfrm>
            <a:off x="3778200" y="5157720"/>
            <a:ext cx="129528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1-Transport of Fatty acids to mitochond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196640"/>
            <a:ext cx="3970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1- Long-chain fatty acid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FAs longer than 12 carb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Long-chain fatty acids are transported to the mitochondria by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carinitine 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using</a:t>
            </a: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carnitine shut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Enzymes of the carinitine shuttl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Carnitine Acyltransferase-I  (</a:t>
            </a:r>
            <a:r>
              <a:rPr b="1" i="1" lang="en-GB" sz="1800" spc="-1" strike="noStrike">
                <a:solidFill>
                  <a:srgbClr val="000099"/>
                </a:solidFill>
                <a:latin typeface="Calibri"/>
              </a:rPr>
              <a:t>CAT-I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Carnitine Acyltransferase-II (</a:t>
            </a:r>
            <a:r>
              <a:rPr b="1" i="1" lang="en-GB" sz="1800" spc="-1" strike="noStrike">
                <a:solidFill>
                  <a:srgbClr val="000099"/>
                </a:solidFill>
                <a:latin typeface="Calibri"/>
              </a:rPr>
              <a:t>CAT-II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4500720" y="1197000"/>
            <a:ext cx="4464000" cy="5256360"/>
          </a:xfrm>
          <a:prstGeom prst="rect">
            <a:avLst/>
          </a:prstGeom>
          <a:ln w="0">
            <a:noFill/>
          </a:ln>
        </p:spPr>
      </p:pic>
      <p:sp>
        <p:nvSpPr>
          <p:cNvPr id="74" name="Content Placeholder 2"/>
          <p:cNvSpPr/>
          <p:nvPr/>
        </p:nvSpPr>
        <p:spPr>
          <a:xfrm>
            <a:off x="324000" y="4869000"/>
            <a:ext cx="417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  <a:ea typeface="Arial"/>
              </a:rPr>
              <a:t>2- Short- &amp; medium- chain fatty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  <a:ea typeface="Arial"/>
              </a:rPr>
              <a:t>FAs shorter than 12 carbons 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  <a:ea typeface="Arial"/>
              </a:rPr>
              <a:t>Can cross the inner mitochondrial membrane without aid of   carini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24000" y="333360"/>
            <a:ext cx="83008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Sources of cariniti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Diet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: 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particularly in meat produ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Synthesized: 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From amino acids lysine &amp; methionine  in </a:t>
            </a:r>
            <a:r>
              <a:rPr b="0" lang="en-GB" sz="2000" spc="-1" strike="noStrike" u="sng">
                <a:solidFill>
                  <a:srgbClr val="000099"/>
                </a:solidFill>
                <a:uFillTx/>
                <a:latin typeface="Calibri"/>
              </a:rPr>
              <a:t>liver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 &amp; </a:t>
            </a:r>
            <a:r>
              <a:rPr b="0" lang="en-GB" sz="2000" spc="-1" strike="noStrike" u="sng">
                <a:solidFill>
                  <a:srgbClr val="000099"/>
                </a:solidFill>
                <a:uFillTx/>
                <a:latin typeface="Calibri"/>
              </a:rPr>
              <a:t>kidne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                               </a:t>
            </a:r>
            <a:r>
              <a:rPr b="0" lang="en-GB" sz="2000" spc="-1" strike="noStrike" u="sng">
                <a:solidFill>
                  <a:srgbClr val="000099"/>
                </a:solidFill>
                <a:uFillTx/>
                <a:latin typeface="Calibri"/>
              </a:rPr>
              <a:t>BUT not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:  in sk.ms &amp; he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Inhibitor of carinitine shut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occurrence of </a:t>
            </a:r>
            <a:r>
              <a:rPr b="1" lang="en-GB" sz="2000" spc="-1" strike="noStrike">
                <a:solidFill>
                  <a:srgbClr val="000099"/>
                </a:solidFill>
                <a:latin typeface="Calibri"/>
              </a:rPr>
              <a:t>fatty acid synthesis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in the cytosol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      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(indicated by malonyl Co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    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- increased </a:t>
            </a:r>
            <a:r>
              <a:rPr b="1" lang="en-GB" sz="2000" spc="-1" strike="noStrike">
                <a:solidFill>
                  <a:srgbClr val="000099"/>
                </a:solidFill>
                <a:latin typeface="Calibri"/>
              </a:rPr>
              <a:t>acetyl CoA / CoA rat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38200" y="1989000"/>
            <a:ext cx="8066160" cy="2017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2635200" y="4081320"/>
            <a:ext cx="387180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20760" y="260280"/>
            <a:ext cx="85723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Carnitine deficienc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Lead to decreased ability of tissues to use long-chain FAs as sources of fuel as they are not transported to the mitochondria (↓ AT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1-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Secondary ca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- liver diseases:  decreased synthesis of carnit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- Malnutrition or strictly vegetarians: diminished carnitine in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- Increased demand for carnitine  e.g. In fever, pregnancy, et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- Hemodialysis  due to removal of carnitine from bl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2-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Primary carinitine deficienci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caused by </a:t>
            </a:r>
            <a:r>
              <a:rPr b="1" i="1" lang="en-GB" sz="1800" spc="-1" strike="noStrike">
                <a:solidFill>
                  <a:srgbClr val="000099"/>
                </a:solidFill>
                <a:latin typeface="Calibri"/>
              </a:rPr>
              <a:t>congenital deficiencies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of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- one of enzymes of the carnitine shuttle (next slid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- one of the components of renal tubular reabsorption of carnit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- one of the components of carnitine uptake of carnitine by cel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07:07:11Z</dcterms:created>
  <dc:creator>sherif</dc:creator>
  <dc:description/>
  <dc:language>en-US</dc:language>
  <cp:lastModifiedBy>Jamal Younis</cp:lastModifiedBy>
  <dcterms:modified xsi:type="dcterms:W3CDTF">2016-09-29T08:37:20Z</dcterms:modified>
  <cp:revision>242</cp:revision>
  <dc:subject/>
  <dc:title>Slide 1</dc:title>
</cp:coreProperties>
</file>